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258-8554-4A44-9179-297EC360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692-7572-47C4-8BE2-4B672CC6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48F-BD28-402E-A4F0-4BD9D35E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1D8-B74F-447D-8F23-A636D8BC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DC4-65CC-4CB0-A360-5218B01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73D-8E35-429E-B12D-537D20D0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73E-2B86-495E-8B2A-D6CB697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F48-33A7-4B0A-B890-514BC06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7FF-0F43-481A-9A0A-063209C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272-EF6B-421A-B84E-2E8E026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379-936B-4B44-A847-DAD2977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E4E-4A83-4CEA-8360-68413C3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443F-E170-4468-8031-532B29FA9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image" Target="../media/image1.wmf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image" Target="../media/image1.wmf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.wmf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37808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1"/>
          <p:cNvSpPr/>
          <p:nvPr/>
        </p:nvSpPr>
        <p:spPr>
          <a:xfrm>
            <a:off x="1177920" y="15462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43000" y="236844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177920" y="26733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43000" y="335916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177920" y="378144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43000" y="434988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2"/>
          <p:cNvSpPr/>
          <p:nvPr/>
        </p:nvSpPr>
        <p:spPr>
          <a:xfrm>
            <a:off x="1177920" y="47307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43000" y="534024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177920" y="547380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27"/>
          <p:cNvSpPr txBox="1"/>
          <p:nvPr/>
        </p:nvSpPr>
        <p:spPr>
          <a:xfrm>
            <a:off x="2209680" y="730080"/>
            <a:ext cx="60865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lcome to My Portfol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3733920" y="4886280"/>
            <a:ext cx="2600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Kevin He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y 200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3" name="Picture 32" descr="j0182829"/>
          <p:cNvPicPr/>
          <p:nvPr/>
        </p:nvPicPr>
        <p:blipFill>
          <a:blip r:embed="rId18"/>
          <a:stretch/>
        </p:blipFill>
        <p:spPr>
          <a:xfrm>
            <a:off x="3925800" y="116856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206280"/>
            <a:ext cx="487692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10880" y="1076400"/>
            <a:ext cx="395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Type some things about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Add a picture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0" y="326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Note to Vie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52388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Tell your viewers what your purpose of your portfolio is. Point out some things about your entries that you think are spe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Proje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ach of these is a link to another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46000" y="1854360"/>
            <a:ext cx="3359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 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85436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 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lang MT"/>
              </a:rPr>
              <a:t>Entry</a:t>
            </a:r>
            <a:r>
              <a:rPr b="0" lang="en-US" sz="1800" spc="-1" strike="noStrike">
                <a:solidFill>
                  <a:srgbClr val="000000"/>
                </a:solidFill>
                <a:latin typeface="Klang MT"/>
              </a:rPr>
              <a:t> (ref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0920" y="326520"/>
            <a:ext cx="71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Viewer Comment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For this slide, go to slide view to add com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9840" y="20257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6" action="ppaction://hlinksldjump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69840" y="313380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9" action="ppaction://hlinksldjump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1"/>
          <p:cNvSpPr/>
          <p:nvPr/>
        </p:nvSpPr>
        <p:spPr>
          <a:xfrm>
            <a:off x="69840" y="408312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2" action="ppaction://hlinksldjump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69840" y="4826160"/>
            <a:ext cx="171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5" action="ppaction://hlinksldjump"/>
              </a:rPr>
              <a:t>View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6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17" action="ppaction://hlinksldjump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057400" y="2025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057400" y="27828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057400" y="3701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er, type your comment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lang MT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0920" y="1720800"/>
            <a:ext cx="70866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la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lang MT"/>
              </a:rPr>
              <a:t>List two or three goals you have for yourself academ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7300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9840" y="898560"/>
            <a:ext cx="17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Klang MT"/>
                <a:hlinkClick r:id="rId3" action="ppaction://hlinksldjump"/>
              </a:rPr>
              <a:t>Note to 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34920" y="17208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9840" y="20257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Meet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5"/>
          <a:stretch/>
        </p:blipFill>
        <p:spPr>
          <a:xfrm>
            <a:off x="34920" y="271152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69840" y="3133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6"/>
          <a:stretch/>
        </p:blipFill>
        <p:spPr>
          <a:xfrm>
            <a:off x="34920" y="3701880"/>
            <a:ext cx="1711440" cy="1124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69840" y="4083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7"/>
          <a:stretch/>
        </p:blipFill>
        <p:spPr>
          <a:xfrm>
            <a:off x="34920" y="4692600"/>
            <a:ext cx="1711440" cy="1123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3"/>
          <p:cNvSpPr/>
          <p:nvPr/>
        </p:nvSpPr>
        <p:spPr>
          <a:xfrm>
            <a:off x="69840" y="4826160"/>
            <a:ext cx="17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Vie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Klang MT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5:58:20Z</dcterms:created>
  <dc:creator>New Century Classroom</dc:creator>
  <dc:description/>
  <dc:language>en-US</dc:language>
  <cp:lastModifiedBy>helen</cp:lastModifiedBy>
  <dcterms:modified xsi:type="dcterms:W3CDTF">2011-03-23T15:34:11Z</dcterms:modified>
  <cp:revision>10</cp:revision>
  <dc:subject/>
  <dc:title>PowerPoint Presentation</dc:title>
</cp:coreProperties>
</file>